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B45-E210-4F67-9DB6-8DE5792B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47F-E82C-4A48-A73D-62C11732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B0E-E90B-468D-8864-E4EFC664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0EA-82AA-43A2-B8D4-CCF2071E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B1C-987F-4D2D-AE6C-7793C3AA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ACA-2B22-41D2-B53B-2A796F65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99B-5BC9-4AFE-863C-82B8BC27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B28-7A00-4FB6-810D-7E273835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0F8-E4D2-4608-A580-28D1C8AC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72E-C0FD-488F-A9A0-EB52E5DE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D4A-12E1-4112-A79C-6215EA2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D80-2665-4B27-A8A5-27FEEF2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C1F574-529B-415D-9326-977ADA8F88E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бщающее повторение часте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омоф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ём, при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чём, при 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125360"/>
          <a:ext cx="8229600" cy="56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с предлог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. предло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ус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ска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де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marL="6808680" indent="-6807240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08680"/>
                          <a:tab algn="l" pos="7723080"/>
                          <a:tab algn="l" pos="8637480"/>
                          <a:tab algn="l" pos="9551880"/>
                          <a:tab algn="l" pos="10466280"/>
                          <a:tab algn="l" pos="11380680"/>
                          <a:tab algn="l" pos="12295080"/>
                          <a:tab algn="l" pos="13209480"/>
                          <a:tab algn="l" pos="14123880"/>
                          <a:tab algn="l" pos="15038280"/>
                          <a:tab algn="l" pos="15952680"/>
                          <a:tab algn="l" pos="1686708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сух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 коллектива клас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с подруг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ветр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ли в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ч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оворили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 группа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полнен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омпьютерное 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акой части речи вызывает особое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описание какой части речи вызывает особое затрудн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 и систематизация знаний, полученных в 5-9 классах по теме «Морфология», закрепление навыков правописания  разны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тестированию на компьюте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ирован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..ла мать что уже и сыны её сели на к..ней она кинулась к меньш..му у которого в чертах лица выр..жалось более какой-то нежности она схватила его за стремя она прилипла к седлу его и с отчаянием в глазах (не)выпускала из рук сво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огда =  - ), (что - =), [ - = ], (у которого =): [ - = ], [- = и =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ела мать, что уже и сыны её сели на коней, она кинулась к меньшому, у которого в чертах лица выражалось более какой-то нежности: она схватила его за стремя, она прилипла к седлу его и с отчаянием в глазах не выпускала из рук своих. (Н.Г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1052640"/>
            <a:ext cx="5761080" cy="129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и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 rot="17580000">
            <a:off x="1833480" y="2492280"/>
            <a:ext cx="936720" cy="136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480000">
            <a:off x="5510520" y="2491560"/>
            <a:ext cx="97632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4076640"/>
            <a:ext cx="29509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4149720"/>
            <a:ext cx="4392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ояте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72200" y="4968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1840" y="85716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836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9480" y="8571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03840" y="85716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83664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1480" y="8366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ая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83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120" y="114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64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16477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164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47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а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92920" y="1647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ва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08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ип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6560" y="1989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43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9480" y="2781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80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-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2800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80200" y="2781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" y="30686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7440" y="3089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3640" y="3089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9280" y="33764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33640" y="3952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1640" y="39528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9337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548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50864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452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564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5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5084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4492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8200" y="5084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27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5084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нег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Когда 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(от гл.стаять в форме 1 лица, буд.врем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нет речк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.голубой в форме сравн. степ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ечёт, кач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стая в форме Вин.п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ё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голубь в форме Род. пад.мн.чи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8920" y="260280"/>
            <a:ext cx="6913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9:15:52Z</dcterms:created>
  <dc:creator>àð</dc:creator>
  <dc:description/>
  <dc:language>en-US</dc:language>
  <cp:lastModifiedBy>àð</cp:lastModifiedBy>
  <dcterms:modified xsi:type="dcterms:W3CDTF">2011-10-02T18:59:27Z</dcterms:modified>
  <cp:revision>8</cp:revision>
  <dc:subject/>
  <dc:title>Îáîáùàþùåå ïîâòîðåíèå ÷àñòåé ðå÷è</dc:title>
</cp:coreProperties>
</file>